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8B7-8857-42A9-8860-56B8EC71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EE3-7885-4CA8-AF42-3A524FBB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993-0ADD-4F14-B99A-08F44C54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22F-EEF9-4A29-9CBD-39BA4AE5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4A0-A64A-43ED-97F3-D5465DA6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C1A-1822-442B-8740-D74E125B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479-0CD1-4671-8B2A-196881B0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60A-C297-4EE7-ADA1-F1C6F62F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9CC-9CBA-4A38-B489-CAD498B3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55F-57CA-49B5-AD57-6AFE5DA8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A08-A47C-42BA-8389-0809004F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E56-EDE1-44E1-8D4F-5BA69175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50362-8C5E-4C7F-BD8D-9B59870E6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é 2 : Cris et fri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N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5504040"/>
            <a:ext cx="5486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ff0000"/>
                </a:solidFill>
                <a:latin typeface="Calibri"/>
              </a:rPr>
              <a:t>un témoi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Placeholder 7" descr="coupable.jpeg"/>
          <p:cNvPicPr/>
          <p:nvPr/>
        </p:nvPicPr>
        <p:blipFill>
          <a:blip r:embed="rId1"/>
          <a:stretch/>
        </p:blipFill>
        <p:spPr>
          <a:xfrm>
            <a:off x="2481120" y="1116000"/>
            <a:ext cx="4503960" cy="3541680"/>
          </a:xfrm>
          <a:prstGeom prst="rect">
            <a:avLst/>
          </a:prstGeom>
          <a:ln w="0">
            <a:noFill/>
          </a:ln>
        </p:spPr>
      </p:pic>
      <p:sp>
        <p:nvSpPr>
          <p:cNvPr id="69" name="Title 4"/>
          <p:cNvSpPr/>
          <p:nvPr/>
        </p:nvSpPr>
        <p:spPr>
          <a:xfrm>
            <a:off x="1792440" y="4657680"/>
            <a:ext cx="54864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5504040"/>
            <a:ext cx="5486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ff0000"/>
                </a:solidFill>
                <a:latin typeface="Calibri"/>
              </a:rPr>
              <a:t>anxieux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Placeholder 7" descr="coupable.jpeg"/>
          <p:cNvPicPr/>
          <p:nvPr/>
        </p:nvPicPr>
        <p:blipFill>
          <a:blip r:embed="rId1"/>
          <a:stretch/>
        </p:blipFill>
        <p:spPr>
          <a:xfrm>
            <a:off x="2900520" y="763560"/>
            <a:ext cx="3611520" cy="4181400"/>
          </a:xfrm>
          <a:prstGeom prst="rect">
            <a:avLst/>
          </a:prstGeom>
          <a:ln w="0">
            <a:noFill/>
          </a:ln>
        </p:spPr>
      </p:pic>
      <p:sp>
        <p:nvSpPr>
          <p:cNvPr id="72" name="Title 4"/>
          <p:cNvSpPr/>
          <p:nvPr/>
        </p:nvSpPr>
        <p:spPr>
          <a:xfrm>
            <a:off x="1792440" y="4657680"/>
            <a:ext cx="54864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440" y="5504040"/>
            <a:ext cx="5486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alibri"/>
              </a:rPr>
              <a:t>un faux-</a:t>
            </a:r>
            <a:r>
              <a:rPr b="1" lang="fr-CA" sz="3100" spc="-1" strike="noStrike">
                <a:solidFill>
                  <a:srgbClr val="ff0000"/>
                </a:solidFill>
                <a:latin typeface="Calibri"/>
              </a:rPr>
              <a:t>monnayeu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Placeholder 7" descr="coupable.jpeg"/>
          <p:cNvPicPr/>
          <p:nvPr/>
        </p:nvPicPr>
        <p:blipFill>
          <a:blip r:embed="rId1"/>
          <a:stretch/>
        </p:blipFill>
        <p:spPr>
          <a:xfrm>
            <a:off x="2328840" y="442800"/>
            <a:ext cx="4950000" cy="4772160"/>
          </a:xfrm>
          <a:prstGeom prst="rect">
            <a:avLst/>
          </a:prstGeom>
          <a:ln w="0">
            <a:noFill/>
          </a:ln>
        </p:spPr>
      </p:pic>
      <p:sp>
        <p:nvSpPr>
          <p:cNvPr id="75" name="Title 4"/>
          <p:cNvSpPr/>
          <p:nvPr/>
        </p:nvSpPr>
        <p:spPr>
          <a:xfrm>
            <a:off x="1792440" y="4944960"/>
            <a:ext cx="54864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509920" y="1262160"/>
            <a:ext cx="4051080" cy="2997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e émission de télé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400480" y="1270080"/>
            <a:ext cx="4352760" cy="3284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avoir la chair de po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328840" y="1004760"/>
            <a:ext cx="4367160" cy="3795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200" spc="-1" strike="noStrike">
                <a:solidFill>
                  <a:srgbClr val="ff0000"/>
                </a:solidFill>
                <a:latin typeface="Calibri"/>
              </a:rPr>
              <a:t>c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481120" y="1695600"/>
            <a:ext cx="4233960" cy="2633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 jeu électronique / un jeu vidé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200" spc="-1" strike="noStrike">
                <a:solidFill>
                  <a:srgbClr val="ff0000"/>
                </a:solidFill>
                <a:latin typeface="Calibri"/>
              </a:rPr>
              <a:t>un éc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Placeholder 6" descr="un bruit.jpe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440" y="5504040"/>
            <a:ext cx="5486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ff0000"/>
                </a:solidFill>
                <a:latin typeface="Calibri"/>
              </a:rPr>
              <a:t>un mot de pass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Placeholder 7" descr="coupable.jpeg"/>
          <p:cNvPicPr/>
          <p:nvPr/>
        </p:nvPicPr>
        <p:blipFill>
          <a:blip r:embed="rId1"/>
          <a:stretch/>
        </p:blipFill>
        <p:spPr>
          <a:xfrm>
            <a:off x="3257640" y="763560"/>
            <a:ext cx="2896920" cy="4181400"/>
          </a:xfrm>
          <a:prstGeom prst="rect">
            <a:avLst/>
          </a:prstGeom>
          <a:ln w="0">
            <a:noFill/>
          </a:ln>
        </p:spPr>
      </p:pic>
      <p:sp>
        <p:nvSpPr>
          <p:cNvPr id="93" name="Title 4"/>
          <p:cNvSpPr/>
          <p:nvPr/>
        </p:nvSpPr>
        <p:spPr>
          <a:xfrm>
            <a:off x="1792440" y="4944960"/>
            <a:ext cx="54864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440" y="5504040"/>
            <a:ext cx="5486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ff0000"/>
                </a:solidFill>
                <a:latin typeface="Calibri"/>
              </a:rPr>
              <a:t>redémarr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Placeholder 7" descr="coupable.jpeg"/>
          <p:cNvPicPr/>
          <p:nvPr/>
        </p:nvPicPr>
        <p:blipFill>
          <a:blip r:embed="rId1"/>
          <a:stretch/>
        </p:blipFill>
        <p:spPr>
          <a:xfrm>
            <a:off x="2270160" y="1712880"/>
            <a:ext cx="5008680" cy="2963880"/>
          </a:xfrm>
          <a:prstGeom prst="rect">
            <a:avLst/>
          </a:prstGeom>
          <a:ln w="0">
            <a:noFill/>
          </a:ln>
        </p:spPr>
      </p:pic>
      <p:sp>
        <p:nvSpPr>
          <p:cNvPr id="96" name="Title 4"/>
          <p:cNvSpPr/>
          <p:nvPr/>
        </p:nvSpPr>
        <p:spPr>
          <a:xfrm>
            <a:off x="1792440" y="4944960"/>
            <a:ext cx="54864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3073320" y="612720"/>
            <a:ext cx="29242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(e) dét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3036960" y="1262160"/>
            <a:ext cx="2997000" cy="2997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</a:t>
            </a: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 fich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495520" y="720720"/>
            <a:ext cx="4079880" cy="4079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 logici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000" spc="-1" strike="noStrike">
                <a:solidFill>
                  <a:srgbClr val="ff0000"/>
                </a:solidFill>
                <a:latin typeface="Calibri"/>
              </a:rPr>
              <a:t>le courrier électron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000" spc="-1" strike="noStrike">
                <a:solidFill>
                  <a:srgbClr val="ff0000"/>
                </a:solidFill>
                <a:latin typeface="Calibri"/>
              </a:rPr>
              <a:t>(electronic messaging, i.e. emai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Placeholder 6" descr="un bruit.jpeg"/>
          <p:cNvPicPr/>
          <p:nvPr/>
        </p:nvPicPr>
        <p:blipFill>
          <a:blip r:embed="rId1"/>
          <a:stretch/>
        </p:blipFill>
        <p:spPr>
          <a:xfrm>
            <a:off x="1792440" y="622440"/>
            <a:ext cx="54864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462040" y="654120"/>
            <a:ext cx="4291200" cy="4146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méch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941560" y="1166760"/>
            <a:ext cx="3187800" cy="3187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e cl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997360" y="1251000"/>
            <a:ext cx="3429000" cy="3549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les tal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e lieu du crime / La scène du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Placeholder 6" descr="le lieu de crime.jpeg"/>
          <p:cNvPicPr/>
          <p:nvPr/>
        </p:nvPicPr>
        <p:blipFill>
          <a:blip r:embed="rId1"/>
          <a:srcRect l="0" t="-39" r="0" b="-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521080" y="1168560"/>
            <a:ext cx="4097160" cy="3632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les ind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3073320" y="712800"/>
            <a:ext cx="2924280" cy="3914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e empreinte digit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193840" y="1227240"/>
            <a:ext cx="4656240" cy="3573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e empreinte de p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878200" y="1227240"/>
            <a:ext cx="3287520" cy="3573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 voleur/une vole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5504040"/>
            <a:ext cx="5486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ff0000"/>
                </a:solidFill>
                <a:latin typeface="Calibri"/>
              </a:rPr>
              <a:t>un(e) coupabl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Placeholder 7" descr="coupable.jpeg"/>
          <p:cNvPicPr/>
          <p:nvPr/>
        </p:nvPicPr>
        <p:blipFill>
          <a:blip r:embed="rId1"/>
          <a:srcRect l="-824" t="0" r="-82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Title 4"/>
          <p:cNvSpPr/>
          <p:nvPr/>
        </p:nvSpPr>
        <p:spPr>
          <a:xfrm>
            <a:off x="1792440" y="4657680"/>
            <a:ext cx="54864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200" spc="-1" strike="noStrike">
                <a:solidFill>
                  <a:srgbClr val="ff0000"/>
                </a:solidFill>
                <a:latin typeface="Calibri"/>
              </a:rPr>
              <a:t>interro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Placeholder 6" descr="un bruit.jpeg"/>
          <p:cNvPicPr/>
          <p:nvPr/>
        </p:nvPicPr>
        <p:blipFill>
          <a:blip r:embed="rId1"/>
          <a:stretch/>
        </p:blipFill>
        <p:spPr>
          <a:xfrm>
            <a:off x="2208240" y="612720"/>
            <a:ext cx="46544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6:07:09Z</dcterms:created>
  <dc:creator>Vanessa Graymason</dc:creator>
  <dc:description/>
  <dc:language>en-US</dc:language>
  <cp:lastModifiedBy>Sarah</cp:lastModifiedBy>
  <dcterms:modified xsi:type="dcterms:W3CDTF">2012-04-27T04:26:19Z</dcterms:modified>
  <cp:revision>29</cp:revision>
  <dc:subject/>
  <dc:title>Unité 2 : Cris et frisson</dc:title>
</cp:coreProperties>
</file>